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1B4F-73E2-4066-AD85-03632AD5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E5FB-C2B9-4A27-9586-6C659DD0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6E2C-7C94-4E59-A550-1EA5059B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649F-FE15-4927-A0A2-17C6E923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4658-17A9-438E-8A05-F680B86F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491-4262-443B-B498-964E89E1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A62-A485-4A9A-A95C-9DD896C8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0D8-96C5-4B93-B19F-76A6373F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1D22-89D9-4721-A7B8-1A0B4044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866-4D3D-4BFD-B1D4-E34817E8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69B6-3BF5-4A69-BD50-E359B540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0CA-D8BC-41F0-8C93-6C18EF07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57C3-5D99-4D40-9CD9-471230277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image" Target="../media/image1.pct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image" Target="../media/image1.pct"/><Relationship Id="rId5" Type="http://schemas.openxmlformats.org/officeDocument/2006/relationships/image" Target="../media/image11.pct"/><Relationship Id="rId6" Type="http://schemas.openxmlformats.org/officeDocument/2006/relationships/image" Target="../media/image12.pct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hogen Int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Are you always out to hurt people? Expla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I do many wonderful things for people,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ing f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er &amp; w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ther T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gen fixing - fertilize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with di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human hormones via genetic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 How do doctors know which antibiotics will kill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am Stain can be used because some antibiotics are effective for Gram + bacteria, whereas others are more effective against Gram -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Why are you hurt by antibiotics but my cells are n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don’t have a cell wall but I do - antibiotics target my cell w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 Discuss the 2 ways in which your diseases can harm 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interfere with normal functioning of body tissue and I can release toxins that directly affect my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_x0010_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Malaria, African Sleeping Sickness, Amoeb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Non-Exam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me Disease, Ebola, Teta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ist Picture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3124080" cy="2260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3429000" cy="2210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143000" y="3962520"/>
            <a:ext cx="3124080" cy="2133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267080" y="3962520"/>
            <a:ext cx="34797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Diatom, describe your potential for becoming a cancer dru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roduce substances that prevent some human cancer cells from di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 Oomycota, explain your role in the mass immigration of Irish people to Americ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ytophtora infesta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destroyed the potato crop which led to the Irish Potato Famine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Plasmodium, what disease do you cause &amp; how do you affect human red blood cel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use malaria - I multiply inside of red blood cells and then split them open to release toxins and my newly produced sp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 Sporozoans, what do you have in common with viru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all parasitic - require a h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_x0010_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Rabies, polio, cold, influenza, herpes, hepatitis, chicken p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Non-Exam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Hookworm, amoebas, E. c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sitic W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_x0010_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Hookworm, Tapeworm, Flu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Non-Exam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Ringworm, Yellow Fever, Pneum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sitic Worm Picture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971800" cy="2819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3941640"/>
            <a:ext cx="2971800" cy="25354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3352680" y="4038480"/>
            <a:ext cx="2895840" cy="2438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429000" y="1143000"/>
            <a:ext cx="2819520" cy="2895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2666880" cy="2819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6248520" y="3962520"/>
            <a:ext cx="2666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Ascaris, explain how you pass from one person to anoth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eggs are swallowed &amp; hatch in the intestines - depending on my species, I mature in different areas of the body - my newly produced eggs may be released in feces or coughed out and are then swallowed by someone el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 Hookworm, why do you make me feel so weak &amp; tir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use blood loss which is known as anemia = tired, weak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Tapeworm, describe your adaptations for stealing my nutri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scolex (head) has hooks &amp; suckers on it which are designed to attach to your intestines &amp; absorb your digested nutri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 Blood fluke, in order to infect me, you need another organism - can you tell me about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larvae develop &amp; asexually reproduce inside a secondary host, such as a snail - then they exit into the water &amp; bore through the skin of a human, enter the blood stream, and move into the intestine to mature into adulth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 Trichinella, how can meat inspectors detect your pres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ors must take a meat sample &amp; look for me under a microsc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us Picture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352680" cy="2209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038480" y="1523880"/>
            <a:ext cx="4762800" cy="5029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33526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How do you cause illness in peop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disrupt normal growth and division of host cells = tum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infect host cells, cause them to make many copies of me, &amp; then kill the host cell by breaking it open to release my newly formed virus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 How can I protect myself from yo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produce interferon, which slows down my replic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release antibodies to destroy me (if you already have th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have special white blood cells phagocytize (eat)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produce a fever, which slows down my replication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Why aren’t you a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arasitic, I can’t survive on my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n’t metabolize food, grow, or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 Explain why I might not know that you infected 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lysogenic cycle is sneaky - I produce a provirus which can remain inactive for many years, it is quietly copied every time your host cells divide - eventually I am activated &amp; produce disease symptoms but until then, you won’t know I’m there (unless you have had blood tests to detect my pres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</a:t>
            </a: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_x0010_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Typhoid, Tetanus, TB, Salmonella, Strep throat, E. coli, Lyme diseas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Non-Exam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ヒラギノ角ゴ ProN W3"/>
              </a:rPr>
              <a:t>Cold, flu, heartworm, athlete’s 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a0ff"/>
            </a:gs>
            <a:gs pos="100000">
              <a:srgbClr val="ff99d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ria Picture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800600" y="17524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3:26:57Z</dcterms:created>
  <dc:creator>Clayton Johns</dc:creator>
  <dc:description/>
  <dc:language>en-US</dc:language>
  <cp:lastModifiedBy>Clayton Johns</cp:lastModifiedBy>
  <dcterms:modified xsi:type="dcterms:W3CDTF">2010-04-21T15:37:35Z</dcterms:modified>
  <cp:revision>7</cp:revision>
  <dc:subject/>
  <dc:title>Pathogen Interview</dc:title>
</cp:coreProperties>
</file>